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0E7F-E5FD-4593-B1BD-32498104581F}" type="slidenum">
              <a:rPr b="0" lang="es-A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D7E3-722F-4D2D-94A5-3D2363523357}" type="slidenum">
              <a:rPr b="0" lang="es-AR"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9FFE-3D53-4CE4-8D27-07D71521F8FB}" type="slidenum">
              <a:rPr b="0" lang="es-AR"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FAB0-BE0D-4061-A3B0-C510F71E8DAF}" type="slidenum">
              <a:rPr b="0" lang="es-AR"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68FBD-9B96-4185-A6F6-02FDF67D5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F9839-09BA-4A73-A3F5-E74477FA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C43F8-E322-4EBF-9670-6DB5E419F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C1850-4933-43F1-8283-BF1B5FD25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DB0B3-B1AA-402B-8BDB-0AC1E4339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6FD6E-D415-4F29-8A57-CA3BC60CC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B96A4-1664-494C-92E5-FD32E5001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5095E-55D4-4A2B-B0FB-D7BB6C348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49AC3-36F3-441B-9DF9-CC5D9360E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4994A-C6C3-4FF3-97F6-1C5F484A2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0466E-6DC5-4006-89B1-0FFC2D6FB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4A69D-747F-40EF-A63C-6F070CFB2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AF675-BA89-48A6-8B50-3423E66A6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CDC47-03F3-44D7-95C6-57ACCD202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6843B-7209-41C6-A60B-4ADB3F2AB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F5B26-072A-4B0F-9FBF-FBFB19EA9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3B63C-A17A-4195-80A0-2F53C6FC6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16242B-98B6-4819-A3CD-35C8BE737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277A7-4142-4048-B89F-07D6FB2A7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7C3E5-0FA5-40AF-ACDE-67A8E22D3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5082E-3E1F-430B-88AD-4DF01B8C0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05B313-D038-4B0B-94BF-1A56D696E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9E61E-A30C-4E2A-B857-0D8D90CB4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3C77D8-A268-408D-B631-B7E056F7D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3DD76-C001-4F3E-AF62-FE10A03B9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A00CE-9090-4DD5-A8E1-AE3F0B2FC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23187-5568-4220-80FF-D0415C959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1636D-1031-42F0-830E-EA7C3FDA4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5AD1DF-6BF2-4AE9-AC5F-1D4D7E9D4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6B0884-9ACD-4E1F-8DA9-A38AAB69C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B92D89-9F15-4F88-9C37-E0D2BE93B7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539B6B-8128-4FA7-9291-85A2A42B2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C9761C-7BB0-4916-9B3F-562070459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3412F-163A-4A50-87CC-E760DD911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4FE5B-72BE-4E4F-81DD-82AF78EB26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CA863-067F-408D-92AF-AC4AD2FA6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A91EA-B75D-4B2E-A196-7F57EA3FBE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3FB1F-7EFC-4766-BEF4-DD650C831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0CB3F-D654-4AAD-B8E3-64E82C704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5A131-FC10-4423-A6BB-54C2BF45C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9DCB9-7846-40A6-A43B-FBB2AD8D8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6232EA-5632-4FAF-BB6A-BC734235EF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CEC517-179E-40D0-8BF3-2C2C8EEAF4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C8D4D-F0C1-4DCE-960F-CF4CC56E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53466-A7B2-490D-8D7A-95CF62F5E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23A1-EB12-469F-9FA5-7E789834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AE6A2-3748-4EE2-BA29-F3CD1E205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F5369-89CD-4A7B-9227-AE3C2160A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0C62-93F7-4C01-935F-956110138B9E}" type="slidenum">
              <a:rPr b="0" lang="es-A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1D8F-173B-4BDB-A88E-0B7FA8D2DBD9}" type="slidenum">
              <a:rPr b="0" lang="es-A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DF9E-3998-42EA-B1A4-0964827A3E30}" type="slidenum">
              <a:rPr b="0" lang="es-A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9B3E-2A40-455A-A832-B63A019C017F}" type="slidenum">
              <a:rPr b="0" lang="es-A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Sub Comision de Impuestos en la Actividad Agropecuaria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1 Título" descr=""/>
          <p:cNvPicPr/>
          <p:nvPr/>
        </p:nvPicPr>
        <p:blipFill>
          <a:blip r:embed="rId1"/>
          <a:stretch/>
        </p:blipFill>
        <p:spPr>
          <a:xfrm>
            <a:off x="12600" y="901800"/>
            <a:ext cx="8693280" cy="1158840"/>
          </a:xfrm>
          <a:prstGeom prst="rect">
            <a:avLst/>
          </a:prstGeom>
          <a:ln w="0">
            <a:noFill/>
          </a:ln>
        </p:spPr>
      </p:pic>
      <p:sp>
        <p:nvSpPr>
          <p:cNvPr id="221" name="3 Rectángulo"/>
          <p:cNvSpPr/>
          <p:nvPr/>
        </p:nvSpPr>
        <p:spPr>
          <a:xfrm>
            <a:off x="460440" y="2652840"/>
            <a:ext cx="8136000" cy="3061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Finalizada la cosecha, el productor solicitara y la AFIP dispondrá la cantidad de Carta de Porte  que le corresponde como máximo a utilizar, de acuerdo a los controles antes descriptos al enunciar como se determina la capacidad operativa.</a:t>
            </a:r>
            <a:endParaRPr b="0" lang="en-US" sz="2000" spc="-1" strike="noStrike">
              <a:solidFill>
                <a:srgbClr val="000000"/>
              </a:solidFill>
              <a:latin typeface="Constantia"/>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En la RG 2845 se establece y detalla su uso obligatorio </a:t>
            </a:r>
            <a:r>
              <a:rPr b="0" i="1" lang="es-ES" sz="2000" spc="-1" strike="noStrike">
                <a:solidFill>
                  <a:srgbClr val="000000"/>
                </a:solidFill>
                <a:latin typeface="Arial"/>
                <a:ea typeface="Calibri"/>
              </a:rPr>
              <a:t>“PARA EL TRANSPORTE AUTOMOTOR Y FERROVIARIO DE GRANOS". </a:t>
            </a:r>
            <a:r>
              <a:rPr b="0" lang="es-ES" sz="2000" spc="-1" strike="noStrike">
                <a:solidFill>
                  <a:srgbClr val="000000"/>
                </a:solidFill>
                <a:latin typeface="Arial"/>
                <a:ea typeface="Calibri"/>
              </a:rPr>
              <a:t> </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La Resolución detalla quienes podrán solicitar formularios de Carta de Port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1 Título" descr=""/>
          <p:cNvPicPr/>
          <p:nvPr/>
        </p:nvPicPr>
        <p:blipFill>
          <a:blip r:embed="rId1"/>
          <a:stretch/>
        </p:blipFill>
        <p:spPr>
          <a:xfrm>
            <a:off x="12600" y="901800"/>
            <a:ext cx="8693280" cy="1158840"/>
          </a:xfrm>
          <a:prstGeom prst="rect">
            <a:avLst/>
          </a:prstGeom>
          <a:ln w="0">
            <a:noFill/>
          </a:ln>
        </p:spPr>
      </p:pic>
      <p:sp>
        <p:nvSpPr>
          <p:cNvPr id="223" name="2 Rectángulo"/>
          <p:cNvSpPr/>
          <p:nvPr/>
        </p:nvSpPr>
        <p:spPr>
          <a:xfrm>
            <a:off x="336600" y="1989000"/>
            <a:ext cx="8567640" cy="4906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Previo al despacho de las Cartas de Porte, el productor deberá solicitar un Código de Trazabilidad de Granos (CTG). El modo de proseguir variara dependiendo el destino y/o la distancia a recorrer. </a:t>
            </a:r>
            <a:endParaRPr b="0" lang="en-US" sz="2000" spc="-1" strike="noStrike">
              <a:solidFill>
                <a:srgbClr val="000000"/>
              </a:solidFill>
              <a:latin typeface="Constantia"/>
            </a:endParaRPr>
          </a:p>
          <a:p>
            <a:pPr indent="449280" algn="just">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Si la mercadería se transportara a puerto, a una acopio que no sea titularidad de una cooperativa o que este a más de 50 kilómetros de su campo, se trata de una notación que debe ser consignado en cada Carta de Porte que ampare el traslado de granos por vía terrestre (excepto transporte ferroviario), asegurando la trazabilidad de los productos agroalimentarios.</a:t>
            </a:r>
            <a:endParaRPr b="0" lang="en-US" sz="2000" spc="-1" strike="noStrike">
              <a:solidFill>
                <a:srgbClr val="000000"/>
              </a:solidFill>
              <a:latin typeface="Constantia"/>
            </a:endParaRPr>
          </a:p>
          <a:p>
            <a:pPr indent="449280" algn="just">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En el caso de acarrear a un acopio que se encuentre a menos de 50 kilómetros o una instalación de una cooperativa, este procedimiento queda como obligación del titular de la planta en la función conocida como información CTG flete cort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1 Título" descr=""/>
          <p:cNvPicPr/>
          <p:nvPr/>
        </p:nvPicPr>
        <p:blipFill>
          <a:blip r:embed="rId1"/>
          <a:stretch/>
        </p:blipFill>
        <p:spPr>
          <a:xfrm>
            <a:off x="12600" y="901800"/>
            <a:ext cx="8693280" cy="1158840"/>
          </a:xfrm>
          <a:prstGeom prst="rect">
            <a:avLst/>
          </a:prstGeom>
          <a:ln w="0">
            <a:noFill/>
          </a:ln>
        </p:spPr>
      </p:pic>
      <p:pic>
        <p:nvPicPr>
          <p:cNvPr id="225" name="Diagrama 1" descr=""/>
          <p:cNvPicPr/>
          <p:nvPr/>
        </p:nvPicPr>
        <p:blipFill>
          <a:blip r:embed="rId2"/>
          <a:srcRect l="-691" t="-164" r="-27519" b="0"/>
          <a:stretch/>
        </p:blipFill>
        <p:spPr>
          <a:xfrm>
            <a:off x="755640" y="2349360"/>
            <a:ext cx="5616720" cy="374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1 Título" descr=""/>
          <p:cNvPicPr/>
          <p:nvPr/>
        </p:nvPicPr>
        <p:blipFill>
          <a:blip r:embed="rId1"/>
          <a:stretch/>
        </p:blipFill>
        <p:spPr>
          <a:xfrm>
            <a:off x="12600" y="901800"/>
            <a:ext cx="9070920" cy="1158840"/>
          </a:xfrm>
          <a:prstGeom prst="rect">
            <a:avLst/>
          </a:prstGeom>
          <a:ln w="0">
            <a:noFill/>
          </a:ln>
        </p:spPr>
      </p:pic>
      <p:sp>
        <p:nvSpPr>
          <p:cNvPr id="227" name="2 Rectángulo"/>
          <p:cNvSpPr/>
          <p:nvPr/>
        </p:nvSpPr>
        <p:spPr>
          <a:xfrm>
            <a:off x="324000" y="2060640"/>
            <a:ext cx="8496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uando el grano arriba a la Planta de Acopio, se da inicio a lo que podemos denominar Etapa de Control de la Documentación, que es regulado por la RG 2324 de 2007, donde tantos las CP como los formularios 1116 son reportados a  AFIP.</a:t>
            </a:r>
            <a:endParaRPr b="0" lang="en-US" sz="20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 primer término la planta informara a la AFIP las Cartas Portes arribadas, a las 24 o 48 horas según la capacidad de la misma. </a:t>
            </a:r>
            <a:endParaRPr b="0" lang="en-US" sz="20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l titular de la planta elabora y emite el formulario 1116A.  Mediante el cual el organismo recaudatorio contara con la información acerca de la calidad y cantidad de granos que posee cada productor en depósito.</a:t>
            </a:r>
            <a:endParaRPr b="0" lang="en-US" sz="2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os caminos a seguir en esta parte del proceso son dos. Conforme a si el grano descargado se comercializa o n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1 Título" descr=""/>
          <p:cNvPicPr/>
          <p:nvPr/>
        </p:nvPicPr>
        <p:blipFill>
          <a:blip r:embed="rId1"/>
          <a:stretch/>
        </p:blipFill>
        <p:spPr>
          <a:xfrm>
            <a:off x="12600" y="901800"/>
            <a:ext cx="9070920" cy="1158840"/>
          </a:xfrm>
          <a:prstGeom prst="rect">
            <a:avLst/>
          </a:prstGeom>
          <a:ln w="0">
            <a:noFill/>
          </a:ln>
        </p:spPr>
      </p:pic>
      <p:sp>
        <p:nvSpPr>
          <p:cNvPr id="229" name="2 Rectángulo"/>
          <p:cNvSpPr/>
          <p:nvPr/>
        </p:nvSpPr>
        <p:spPr>
          <a:xfrm>
            <a:off x="507960" y="2060640"/>
            <a:ext cx="8569440" cy="5277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 el caso en los cuales el productor opta por vender, el comprador emite la liquidación 1116B, de esta forma la AFIP se informa sobre el importe vendido, dando fin al circuito.</a:t>
            </a:r>
            <a:endParaRPr b="0" lang="en-US" sz="2000" spc="-1" strike="noStrike">
              <a:solidFill>
                <a:srgbClr val="000000"/>
              </a:solidFill>
              <a:latin typeface="Constant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 segunda alternativa, es decir cuando se decide transferir a un tercero el grano, el formulario a utilizar es el 1116 RT (opción T), de esta manera se estará informando al organismo fiscal que la mercadería fue transferida.</a:t>
            </a:r>
            <a:endParaRPr b="0" lang="en-US" sz="2000" spc="-1" strike="noStrike">
              <a:solidFill>
                <a:srgbClr val="000000"/>
              </a:solidFill>
              <a:latin typeface="Constant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uede que el productor escoja no comercializar, ni transferir y prefiera retirar lo cosechado para consumo propio.  Dada esta eventualidad la planta de acopio emitirá el mismo formulario (1116 RT) pero a diferencia del caso anterior, se marcara la opción R.  Otorgando así a la AFIP, el saber de que ese grano fue destinado para el autoconsumo.  Finalizando una vez más el circuito impositivo.</a:t>
            </a:r>
            <a:endParaRPr b="0" lang="en-US" sz="20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os formularios 1116 serán reportados semanalmente los lunes respectos de los confeccionados la semana anterior por parte de aquellos sujetos que lo confeccionan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1 Título" descr=""/>
          <p:cNvPicPr/>
          <p:nvPr/>
        </p:nvPicPr>
        <p:blipFill>
          <a:blip r:embed="rId1"/>
          <a:stretch/>
        </p:blipFill>
        <p:spPr>
          <a:xfrm>
            <a:off x="12600" y="901800"/>
            <a:ext cx="9070920" cy="1158840"/>
          </a:xfrm>
          <a:prstGeom prst="rect">
            <a:avLst/>
          </a:prstGeom>
          <a:ln w="0">
            <a:noFill/>
          </a:ln>
        </p:spPr>
      </p:pic>
      <p:pic>
        <p:nvPicPr>
          <p:cNvPr id="231" name="Diagrama 1" descr=""/>
          <p:cNvPicPr/>
          <p:nvPr/>
        </p:nvPicPr>
        <p:blipFill>
          <a:blip r:embed="rId2"/>
          <a:stretch/>
        </p:blipFill>
        <p:spPr>
          <a:xfrm>
            <a:off x="1619280" y="2276640"/>
            <a:ext cx="6481800" cy="43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1 Título" descr=""/>
          <p:cNvPicPr/>
          <p:nvPr/>
        </p:nvPicPr>
        <p:blipFill>
          <a:blip r:embed="rId1"/>
          <a:stretch/>
        </p:blipFill>
        <p:spPr>
          <a:xfrm>
            <a:off x="12600" y="901800"/>
            <a:ext cx="8693280" cy="1158840"/>
          </a:xfrm>
          <a:prstGeom prst="rect">
            <a:avLst/>
          </a:prstGeom>
          <a:ln w="0">
            <a:noFill/>
          </a:ln>
        </p:spPr>
      </p:pic>
      <p:sp>
        <p:nvSpPr>
          <p:cNvPr id="233" name="2 Rectángulo"/>
          <p:cNvSpPr/>
          <p:nvPr/>
        </p:nvSpPr>
        <p:spPr>
          <a:xfrm>
            <a:off x="324000" y="1851120"/>
            <a:ext cx="849600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 AFIP ha logrado avanzar en dos décadas de intenso trabajo para  que la mayor actividad económica del país sea transparente y puede realizarle los controles con la mayor calidad de información.</a:t>
            </a:r>
            <a:endParaRPr b="0" lang="en-US" sz="2000" spc="-1" strike="noStrike">
              <a:solidFill>
                <a:srgbClr val="000000"/>
              </a:solidFill>
              <a:latin typeface="Constant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ero a la vez que realizo esta tarea ha establecido una carga de reporte de información que hoy resulta de un esfuerzo sin igual para los que participan de esta actividad, así como para los profesionales que día a día colaboran y están a cargo de la responsabilidad de asesorar y dar cumplimiento a todos ellos .</a:t>
            </a:r>
            <a:endParaRPr b="0" lang="en-US" sz="2000" spc="-1" strike="noStrike">
              <a:solidFill>
                <a:srgbClr val="000000"/>
              </a:solidFill>
              <a:latin typeface="Constant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2 Rectángulo"/>
          <p:cNvSpPr/>
          <p:nvPr/>
        </p:nvSpPr>
        <p:spPr>
          <a:xfrm>
            <a:off x="428760" y="2286000"/>
            <a:ext cx="6429240" cy="2838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Seria deseable que en el corto plazo </a:t>
            </a:r>
            <a:endParaRPr b="0" lang="en-US" sz="2000" spc="-1" strike="noStrike">
              <a:solidFill>
                <a:srgbClr val="000000"/>
              </a:solidFill>
              <a:latin typeface="Constanti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Se  reemplace  presentación de información ya no necesaria como por ejemplo los contratos de arrendamiento en la actualización de datos de la RG 2300 siempre que se de cumplimiento a la RG 2820</a:t>
            </a:r>
            <a:endParaRPr b="0" lang="en-US" sz="2000" spc="-1" strike="noStrike">
              <a:solidFill>
                <a:srgbClr val="000000"/>
              </a:solidFill>
              <a:latin typeface="Constanti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Unificación de bases de la cual se nutran las distintas administraciones provinciales y otros Organismos (Ej. Senas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1 Título" descr=""/>
          <p:cNvPicPr/>
          <p:nvPr/>
        </p:nvPicPr>
        <p:blipFill>
          <a:blip r:embed="rId1"/>
          <a:stretch/>
        </p:blipFill>
        <p:spPr>
          <a:xfrm>
            <a:off x="55440" y="731880"/>
            <a:ext cx="8253360" cy="2017800"/>
          </a:xfrm>
          <a:prstGeom prst="rect">
            <a:avLst/>
          </a:prstGeom>
          <a:ln w="0">
            <a:noFill/>
          </a:ln>
        </p:spPr>
      </p:pic>
      <p:sp>
        <p:nvSpPr>
          <p:cNvPr id="205"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Constantia"/>
              </a:rPr>
              <a:t>Jornada 24 de Noviembre 2011</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1 Título" descr=""/>
          <p:cNvPicPr/>
          <p:nvPr/>
        </p:nvPicPr>
        <p:blipFill>
          <a:blip r:embed="rId1"/>
          <a:stretch/>
        </p:blipFill>
        <p:spPr>
          <a:xfrm>
            <a:off x="73080" y="701640"/>
            <a:ext cx="8699400" cy="1150920"/>
          </a:xfrm>
          <a:prstGeom prst="rect">
            <a:avLst/>
          </a:prstGeom>
          <a:ln w="0">
            <a:noFill/>
          </a:ln>
        </p:spPr>
      </p:pic>
      <p:sp>
        <p:nvSpPr>
          <p:cNvPr id="207" name="2 Rectángulo"/>
          <p:cNvSpPr/>
          <p:nvPr/>
        </p:nvSpPr>
        <p:spPr>
          <a:xfrm>
            <a:off x="395280" y="1916280"/>
            <a:ext cx="8280360" cy="4428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La Dirección General Impositiva ha tenido objetivo desde la generalización del IVA a la actividad Agropecuaria en 1990 propender a asegurar que cada importe que es devuelto a los exportadores ha ingresado al fisco y al mismo tiempo que el sector más importante que contribuye al PBI de la Argentina page todos los impuestos que les pudieran corresponder por la legislación vigente.</a:t>
            </a:r>
            <a:endParaRPr b="0" lang="en-US" sz="2000" spc="-1" strike="noStrike">
              <a:solidFill>
                <a:srgbClr val="000000"/>
              </a:solidFill>
              <a:latin typeface="Constantia"/>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Hoy después de dos décadas de intenso trabajo, de un sinnúmero de resoluciones, aportes de todos los sectores de la cadena agroindustrial y utilizando   toda la tecnología vigente que está a sus disposición está logrando que la mayor actividad económica del país sea transparente y puede realizarle los controles con la mayor calidad de inform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1 Título" descr=""/>
          <p:cNvPicPr/>
          <p:nvPr/>
        </p:nvPicPr>
        <p:blipFill>
          <a:blip r:embed="rId1"/>
          <a:stretch/>
        </p:blipFill>
        <p:spPr>
          <a:xfrm>
            <a:off x="73080" y="701640"/>
            <a:ext cx="8699400" cy="1150920"/>
          </a:xfrm>
          <a:prstGeom prst="rect">
            <a:avLst/>
          </a:prstGeom>
          <a:ln w="0">
            <a:noFill/>
          </a:ln>
        </p:spPr>
      </p:pic>
      <p:sp>
        <p:nvSpPr>
          <p:cNvPr id="209" name="3 Rectángulo"/>
          <p:cNvSpPr/>
          <p:nvPr/>
        </p:nvSpPr>
        <p:spPr>
          <a:xfrm>
            <a:off x="250920" y="1836720"/>
            <a:ext cx="8497800" cy="4906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La implementación, desde junio pasado, de la Resolución General que obliga a los arrendadores e intermediarios a inscribirse en un Registro especial de Operaciones Inmobiliarias, supone un avance significativo para la aplicación, por parte de la Administración Federal de Ingresos Públicos (AFIP), de una eficiente  supervisión en la actividad agropecuaria. Implica además la posibilidad de dar cierre al proceso para poder contar con  la trazabilidad sobre la  producción de granos.  </a:t>
            </a:r>
            <a:endParaRPr b="0" lang="en-US" sz="2000" spc="-1" strike="noStrike">
              <a:solidFill>
                <a:srgbClr val="000000"/>
              </a:solidFill>
              <a:latin typeface="Constantia"/>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A través de esta nueva RG el organismo fiscal dispone de información concreta sobra cada contrato que ejecuta el arrendador, así como todas las cesiones bajo cualquier modalidad.</a:t>
            </a:r>
            <a:endParaRPr b="0" lang="en-US" sz="2000" spc="-1" strike="noStrike">
              <a:solidFill>
                <a:srgbClr val="000000"/>
              </a:solidFill>
              <a:latin typeface="Constantia"/>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Adicionalmente por otras resoluciones cuenta con datos determinados que le permite controlar desde la siembra, el traslado hasta  la comercialización de los  granos y oleaginos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1 Título" descr=""/>
          <p:cNvPicPr/>
          <p:nvPr/>
        </p:nvPicPr>
        <p:blipFill>
          <a:blip r:embed="rId1"/>
          <a:stretch/>
        </p:blipFill>
        <p:spPr>
          <a:xfrm>
            <a:off x="12600" y="974880"/>
            <a:ext cx="8697960" cy="1152360"/>
          </a:xfrm>
          <a:prstGeom prst="rect">
            <a:avLst/>
          </a:prstGeom>
          <a:ln w="0">
            <a:noFill/>
          </a:ln>
        </p:spPr>
      </p:pic>
      <p:sp>
        <p:nvSpPr>
          <p:cNvPr id="211" name="2 Rectángulo"/>
          <p:cNvSpPr/>
          <p:nvPr/>
        </p:nvSpPr>
        <p:spPr>
          <a:xfrm>
            <a:off x="395280" y="2314440"/>
            <a:ext cx="8137440" cy="3376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RG 2300, del año 2007, que establecía el reporte de los campos propios y arrendedados a los efectos de poder obtener la inscripción en el citado empadronamiento. Es importante destacar que esta información inicial debe ser actualizada cada vez que se realice un cambio.</a:t>
            </a:r>
            <a:endParaRPr b="0" lang="en-US" sz="2000" spc="-1" strike="noStrike">
              <a:solidFill>
                <a:srgbClr val="000000"/>
              </a:solidFill>
              <a:latin typeface="Constantia"/>
            </a:endParaRPr>
          </a:p>
          <a:p>
            <a:pPr marL="285840" indent="-285840" algn="just">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RG 2820, que determina la obligación de ambas partes (dador y receptor)  de declarar el tipo de contrato que los une, por el cual una parte cede en carácter gratuito u oneroso el uso de predio rural a la otra parte.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1 Título" descr=""/>
          <p:cNvPicPr/>
          <p:nvPr/>
        </p:nvPicPr>
        <p:blipFill>
          <a:blip r:embed="rId1"/>
          <a:stretch/>
        </p:blipFill>
        <p:spPr>
          <a:xfrm>
            <a:off x="12600" y="974880"/>
            <a:ext cx="8697960" cy="1152360"/>
          </a:xfrm>
          <a:prstGeom prst="rect">
            <a:avLst/>
          </a:prstGeom>
          <a:ln w="0">
            <a:noFill/>
          </a:ln>
        </p:spPr>
      </p:pic>
      <p:sp>
        <p:nvSpPr>
          <p:cNvPr id="213" name="4 Rectángulo"/>
          <p:cNvSpPr/>
          <p:nvPr/>
        </p:nvSpPr>
        <p:spPr>
          <a:xfrm>
            <a:off x="395280" y="2133720"/>
            <a:ext cx="8280360" cy="1496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RG 2750 y RG 2596. establecen la obligación de informar el stock y cantidades de hectáreas destinadas a la producción y la creación de la registración optativa de los contratos de granos o liquidaciones según corresponda, respectivamente</a:t>
            </a:r>
            <a:r>
              <a:rPr b="0" lang="es-ES" sz="1800" spc="-1" strike="noStrike">
                <a:solidFill>
                  <a:srgbClr val="000000"/>
                </a:solidFill>
                <a:latin typeface="Arial"/>
                <a:ea typeface="Calibri"/>
              </a:rPr>
              <a: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1 Título" descr=""/>
          <p:cNvPicPr/>
          <p:nvPr/>
        </p:nvPicPr>
        <p:blipFill>
          <a:blip r:embed="rId1"/>
          <a:stretch/>
        </p:blipFill>
        <p:spPr>
          <a:xfrm>
            <a:off x="12600" y="974880"/>
            <a:ext cx="8697960" cy="1152360"/>
          </a:xfrm>
          <a:prstGeom prst="rect">
            <a:avLst/>
          </a:prstGeom>
          <a:ln w="0">
            <a:noFill/>
          </a:ln>
        </p:spPr>
      </p:pic>
      <p:pic>
        <p:nvPicPr>
          <p:cNvPr id="215" name="Diagrama 1" descr=""/>
          <p:cNvPicPr/>
          <p:nvPr/>
        </p:nvPicPr>
        <p:blipFill>
          <a:blip r:embed="rId2"/>
          <a:srcRect l="-691" t="-164" r="-27519" b="0"/>
          <a:stretch/>
        </p:blipFill>
        <p:spPr>
          <a:xfrm>
            <a:off x="1692360" y="2205000"/>
            <a:ext cx="5616360" cy="374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1 Título" descr=""/>
          <p:cNvPicPr/>
          <p:nvPr/>
        </p:nvPicPr>
        <p:blipFill>
          <a:blip r:embed="rId1"/>
          <a:stretch/>
        </p:blipFill>
        <p:spPr>
          <a:xfrm>
            <a:off x="12600" y="974880"/>
            <a:ext cx="8697960" cy="1152360"/>
          </a:xfrm>
          <a:prstGeom prst="rect">
            <a:avLst/>
          </a:prstGeom>
          <a:ln w="0">
            <a:noFill/>
          </a:ln>
        </p:spPr>
      </p:pic>
      <p:pic>
        <p:nvPicPr>
          <p:cNvPr id="217" name="Diagrama 1" descr=""/>
          <p:cNvPicPr/>
          <p:nvPr/>
        </p:nvPicPr>
        <p:blipFill>
          <a:blip r:embed="rId2"/>
          <a:srcRect l="-5567" t="-164" r="-26113" b="0"/>
          <a:stretch/>
        </p:blipFill>
        <p:spPr>
          <a:xfrm>
            <a:off x="1187280" y="2492280"/>
            <a:ext cx="5889960" cy="385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1 Título" descr=""/>
          <p:cNvPicPr/>
          <p:nvPr/>
        </p:nvPicPr>
        <p:blipFill>
          <a:blip r:embed="rId1"/>
          <a:stretch/>
        </p:blipFill>
        <p:spPr>
          <a:xfrm>
            <a:off x="12600" y="974880"/>
            <a:ext cx="8697960" cy="1152360"/>
          </a:xfrm>
          <a:prstGeom prst="rect">
            <a:avLst/>
          </a:prstGeom>
          <a:ln w="0">
            <a:noFill/>
          </a:ln>
        </p:spPr>
      </p:pic>
      <p:sp>
        <p:nvSpPr>
          <p:cNvPr id="219" name="2 Rectángulo"/>
          <p:cNvSpPr/>
          <p:nvPr/>
        </p:nvSpPr>
        <p:spPr>
          <a:xfrm>
            <a:off x="539640" y="2852640"/>
            <a:ext cx="8136000" cy="2899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Reunidos todos estos elementos la AFIP tiene conocimiento de la cantidad de hectáreas destinadas a cultivo y podrá determinar la capacidad operativa de cada contribuyente. Establecerá de esta manera las cantidades de Carta Porte  (documento indispensable para el traslado de los granos mediante el transporte automotor de carga de chacra a acopio y de acopio a fábrica, puerto, etc.) que podrá asignar en cada caso. Además dispondrá el tonelaje que puede comercializar o si posee derecho al reintegro sistemáti</a:t>
            </a:r>
            <a:r>
              <a:rPr b="0" lang="es-ES" sz="1800" spc="-1" strike="noStrike">
                <a:solidFill>
                  <a:srgbClr val="000000"/>
                </a:solidFill>
                <a:latin typeface="Arial"/>
                <a:ea typeface="Calibri"/>
              </a:rPr>
              <a:t>co.</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02:48:01Z</dcterms:created>
  <dc:creator>Marcelo Maroevich</dc:creator>
  <dc:description/>
  <dc:language>en-US</dc:language>
  <cp:lastModifiedBy>Emmanuel</cp:lastModifiedBy>
  <dcterms:modified xsi:type="dcterms:W3CDTF">2011-11-24T15:34:22Z</dcterms:modified>
  <cp:revision>23</cp:revision>
  <dc:subject/>
  <dc:title>Presentación Consejo</dc:title>
</cp:coreProperties>
</file>